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C3B-BD32-4FD5-95F0-9C638D7F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B7A-788C-42E1-88A9-ED5876DC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4A2-6849-42CC-AC41-77B038DA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B03-0DFA-4091-8F5C-4F48EAAF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6447-589A-417C-B759-4287E83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664-EC8F-410B-8D83-1C2BA8C9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AC8-2F12-4CBD-ACF0-20472B1C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E2DC-AF5B-4FD4-9D44-CCF23F9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98C6-C353-4DCB-9728-774D996F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4F0F-FA2F-440E-926C-16663475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72AE-F7B1-4CE4-89FD-B7EF55C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FA0-5BEC-40EF-BB79-7E3F9E1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103-9126-47C8-8370-80F4A84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E5EB-429E-487C-84B0-D28F0F76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6644-94EE-4F4A-9838-DE62C18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E18D-A6C2-4E06-AE78-A0614051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3808-9BBE-4CFF-8D04-B5756C91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DE5-1878-45BF-AF07-9FAE41DF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8F2-5C57-48D1-8A6E-DCAC536D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7E5-FCF1-428C-8666-DDC69FE6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EA4-6833-4414-BD7F-AEADC8A4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6BF-C88C-4D3C-824D-481BD2B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904-0037-4E07-9CAE-4F9EA7A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5B6-3C00-43E9-A4F8-DCFFDF4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7BBD-BBF1-4287-A450-2A376E011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9599-9148-4AEC-B031-E5CC35FD3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tworked Information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way in which they are connected, communication standards, (protocol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9890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781360"/>
            <a:ext cx="647676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e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2109960"/>
            <a:ext cx="2590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of 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, not electrical – little signal fade and no danger of sparks in hostile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ignals on a single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sts 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52959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989000"/>
            <a:ext cx="8763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Transmiss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e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is as thin as a human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very flexible – needs thick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ecure (can’t be tapped or sno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long distance (2km without repea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weight, smal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 adaptors to convert digital &lt;&gt; electrical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98900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cludes us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-red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9890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,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dio waves, either long or short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quires transmitter and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-Fi networks use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989000"/>
            <a:ext cx="87631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,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-Fi networks use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ata is transmitted as radio signals between wireless NICs and bas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latively short distances (e.g. 80m-200m), reduced by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eds are increasing – now about 11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ncrypted communications to prevent eavesdr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any PCs can connect to a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Cs can “roam” and will automatically connect to the base station that has the strongest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98900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,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luetooth, short range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ximum distance 10 mt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transfer rate of 2mbps c/f wireless 54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d for use with hand-held devices, eg. PD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989000"/>
            <a:ext cx="8763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icrowave stations to transmit data as high frequency radio signals from one microwave station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/c microwaves travel in straight line, stations must be located relatively close together, (&lt;50kms) &amp; on top of mountains or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high data rates over short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989000"/>
            <a:ext cx="8763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 transmission either in form of radio waves or micro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 receives microwave signals from earth &amp; transmits them back to earth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tay in sam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downloading from internet faster than up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989000"/>
            <a:ext cx="8763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ra-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light waves and requires line-of-sigh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 over short distances, up to 5 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 data transfer c/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333360"/>
            <a:ext cx="682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twork Standards, 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362320"/>
            <a:ext cx="7854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ndards or protocols established to overcome incompatibility 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s, standards or rules defining how two computers or devices on a network transmi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27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in networking technolo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(by far the most common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1 Wireless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7560" y="928800"/>
            <a:ext cx="754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packets are handled within a network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3600" y="9288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096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widely-installed LA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coaxial, UTP or fibre-optic cable, or wire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common is 10BASE-T (Cat 3 or 5) - transmission speeds up to 10 mbps second (Mbps) over twisted pair cable; 10 BASE TX, CAT 5, 100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speeds are 100 and 1000 Mbps.(‘Gigabit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5040" y="92880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(but still rare) alternative to Eth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, slower than Etherne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ather th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 collisions by allowing only one node to transmit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ode can only transmit if it holds a special network packet called the T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of it like a “speaking stick” in a tribal meeting. The stick is passed around in a circle.  Only the person with the stick can sp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s each person gets a say – event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92360" y="47628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ocols – TCP/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836720"/>
            <a:ext cx="64771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iversal protocol for internet communications.  The backbone of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actually two complementary protoco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C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ransport Communication Protocol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Internet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CP/IP uses small packet size which is an advantage for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CP/IP on a LAN enables support for we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83808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ocols – ot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336760"/>
            <a:ext cx="6781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protocols, like POP, (Mail); FTP, (File Transfer); HTTP; (Web Pages) specify how other network and internet operations are conducted between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 Two computers using POP both understand how to request, deliver, delete and interpret e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6480" y="781200"/>
            <a:ext cx="62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02.11 Wireless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42244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fines how 2 computers or devices communicate using radio waves, known as a Wi-Fi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vices up to 50mtrs apart can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fferent standards, eg. 802.11g mean different transfer rate, 54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9890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781360"/>
            <a:ext cx="647676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P (Unshielded Twisted Pair) e.g. CAT5 100 mbp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elded from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s terminator at end of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ge: Thin-185m, thick-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ors can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icult to install but highly resistant to signal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13:48Z</dcterms:created>
  <dc:creator>kel</dc:creator>
  <dc:description/>
  <dc:language>en-US</dc:language>
  <cp:lastModifiedBy>Kelvin Baird</cp:lastModifiedBy>
  <dcterms:modified xsi:type="dcterms:W3CDTF">2007-01-05T02:32:56Z</dcterms:modified>
  <cp:revision>32</cp:revision>
  <dc:subject/>
  <dc:title>PowerPoint Presentation</dc:title>
</cp:coreProperties>
</file>